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9BE-1316-4EE2-931C-C2E4937F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74B-6E1A-4866-B46F-0B510128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7BB8-CA77-42FC-B175-25649FEA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BA3-1DAC-4B0E-B230-7BFB4088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B02-3C2E-4477-AD0A-A5B9565D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068-A578-4EFA-B9BD-15C768CF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6EC-81BA-436E-81B1-93E7C258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969-5417-4955-9952-AE701884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AFB-CAAE-48EC-8203-6E3A5979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D6A-F8F4-46D9-915D-2E0D8EA1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678-28E3-4EE3-A109-F8297E75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186-ED82-4438-8367-F7189545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35AC-C70B-4A7C-8DE5-EC3B5E4E0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gatorade.com/swf/products/images/1/G2_Fruit_Punch.png&amp;imgrefurl=http://www.gatorade.com/products/product.aspx%3Fid%3Dg2&amp;usg=__5XCLJpOv-Msd_judFEFQhhFT0rs=&amp;h=580&amp;w=250&amp;sz=160&amp;hl=en&amp;start=17&amp;zoom=1&amp;tbnid=vED_r0hiCTkDtM:&amp;tbnh=134&amp;tbnw=58&amp;ei=JZzXTrb0I4Li2QXuvayZDw&amp;prev=/search%3Fq%3Dgatorade%26hl%3Den%26gbv%3D2%26tbm%3Disch&amp;itbs=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atorade.com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lemelson.com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456840" y="1066680"/>
            <a:ext cx="5410440" cy="4495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3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ATORADE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4267080"/>
            <a:ext cx="2666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era 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-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248520"/>
            <a:ext cx="4876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now way underscore3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8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722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35812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3520"/>
            <a:ext cx="3733920" cy="5638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457200" y="47998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876920"/>
            <a:ext cx="312444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orade, Robert Cade, 12/8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atora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457200" y="533412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Cade"/>
          <p:cNvPicPr/>
          <p:nvPr/>
        </p:nvPicPr>
        <p:blipFill>
          <a:blip r:embed="rId4"/>
          <a:stretch/>
        </p:blipFill>
        <p:spPr>
          <a:xfrm rot="1543800">
            <a:off x="3505320" y="1219320"/>
            <a:ext cx="5410080" cy="2149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81480" y="47926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42800">
            <a:off x="3315960" y="4142880"/>
            <a:ext cx="3733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Gatorade banner, Dec.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Lemels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ato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e tried several concoctions and finally came up with a winning formula consisting of water, sugar, sodium, potassium, phosphate, and lemon ju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orade became a house hold name when the traditions of pouring the Gatorade jug on the head of the winning co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Quaker Oats Co. was acquired by Pesp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siCo. In 2001, Gatorade was well on its way to world wide sales In bill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clude other products such as energy bars and chewing gum as well as more than 15 Gatorade flav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bert Cad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 Cade was born in 1927, in Flo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e was trained at the University of Texas Medical School in Dallas as an internist and nephrolog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working as a medical researcher at the University of Florida when a football coach there was frustrated that his players were unable to keep going str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e was intrigued with the problem and lead a research team into investig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e patented the drink, calling it GATORADE at the suggestion of a colleague after the university’s football team. “The Gato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e partnered with Stokley-Van Camp who mass produced and distributed the dr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42Z</dcterms:created>
  <dc:creator>install</dc:creator>
  <dc:description/>
  <dc:language>en-US</dc:language>
  <cp:lastModifiedBy>install</cp:lastModifiedBy>
  <dcterms:modified xsi:type="dcterms:W3CDTF">2011-12-16T15:31:13Z</dcterms:modified>
  <cp:revision>7</cp:revision>
  <dc:subject/>
  <dc:title>Slide 1</dc:title>
</cp:coreProperties>
</file>